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gif" ContentType="image/gif"/>
  <Override PartName="/ppt/media/image16.png" ContentType="image/png"/>
  <Override PartName="/ppt/media/image12.gif" ContentType="image/gif"/>
  <Override PartName="/ppt/media/image3.jpeg" ContentType="image/jpeg"/>
  <Override PartName="/ppt/media/image17.jpeg" ContentType="image/jpeg"/>
  <Override PartName="/ppt/media/image10.gif" ContentType="image/gif"/>
  <Override PartName="/ppt/media/image15.jpeg" ContentType="image/jpeg"/>
  <Override PartName="/ppt/media/image2.gif" ContentType="image/gif"/>
  <Override PartName="/ppt/media/image5.wmf" ContentType="image/x-wmf"/>
  <Override PartName="/ppt/media/image7.jpeg" ContentType="image/jpeg"/>
  <Override PartName="/ppt/media/image1.jpeg" ContentType="image/jpeg"/>
  <Override PartName="/ppt/media/image4.gif" ContentType="image/gif"/>
  <Override PartName="/ppt/media/image8.png" ContentType="image/png"/>
  <Override PartName="/ppt/media/image14.jpeg" ContentType="image/jpeg"/>
  <Override PartName="/ppt/media/image9.jpeg" ContentType="image/jpeg"/>
  <Override PartName="/ppt/media/image6.gif" ContentType="image/gif"/>
  <Override PartName="/ppt/media/image11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5F441-86A9-4B48-9B1D-5A74187BCD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BDF81-A553-4A90-A91A-B48570626C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B. Wat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E978-9706-420A-8486-C290C3B0A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9354-0579-4A30-B991-9A7C1503B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B3A7-2809-4FD9-869D-4BA1CF444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32DD-680C-49E0-8F36-FFC238681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1261D-6509-4306-87C0-11077E5A3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F8DAC-6E67-4781-9C85-ACEFE4728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FFBD5-7765-4D06-A8ED-10B59E016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60197-F6C7-427B-B828-7E1D8FEC5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B9755-E654-490F-885C-F3A976F93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68EAD-8DA8-494A-8F30-8AD1CF341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80D20-65AA-4A2F-926C-EA231FA9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DB5F-9827-4947-9E3C-698143220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55ECF-3552-4127-9802-0D2B61FE9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4ABA1-1D58-4053-8548-DD21AC8A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62951-9547-4C62-AC4F-57D3ED3F0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C1568-55F3-4E4E-B4C3-85D5D4C95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3DB01-94E1-4811-9EAB-CFE58D997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E849-96B0-4957-9969-18395A57B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F6A1-9523-4188-B6B9-0053CEEAD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EABA-FE28-47A3-BD2E-F4EEA0593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0098-13F2-4788-8C0D-BCC3C98DA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0458-2B86-432B-A819-90394B60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9AA0-2362-4DB3-B6B2-A83A4B95B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2526-D043-4B8F-B0EB-0973459A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3DAF9-F011-4F53-A028-A0239977898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Group 3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Rectangle 4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Rectangle 5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Rectangle 6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Rectangle 7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Rectangle 8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Rectangle 9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Rectangle 10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Rectangle 11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Rectangle 12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" name="Rectangle 13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Rectangle 14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Rectangle 15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Rectangle 16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Rectangle 17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Rectangle 18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Rectangle 19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Rectangle 20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Rectangle 21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Rectangle 22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Rectangle 23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6" name="Rectangle 24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" name="Rectangle 25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" name="Rectangle 26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Rectangle 27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Rectangle 28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" name="Rectangle 29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" name="Rectangle 30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3" name="Rectangle 31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4" name="Rectangle 32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" name="Rectangle 33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" name="Rectangle 34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7" name="Rectangle 35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Rectangle 36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9" name="Rectangle 37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0" name="Rectangle 38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1" name="Rectangle 39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2" name="Rectangle 40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Rectangle 41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" name="Rectangle 42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" name="Rectangle 43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" name="Rectangle 44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" name="Rectangle 45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" name="Rectangle 46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Rectangle 47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Rectangle 48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Rectangle 49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Rectangle 50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Rectangle 51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" name="Rectangle 52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Rectangle 53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Rectangle 54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Rectangle 55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Rectangle 56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Rectangle 57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Rectangle 58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Rectangle 59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Rectangle 60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Rectangle 61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Rectangle 62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5" name="Rectangle 63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6" name="Rectangle 64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Rectangle 65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8" name="Rectangle 66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68251-C90B-4597-B49F-E58BD58FBEC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FjJuN9Qfr0I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Psychology’s Perspectiv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1600200" y="243828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Big Seve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9" name="Picture 4" descr="7_md_clr"/>
          <p:cNvPicPr/>
          <p:nvPr/>
        </p:nvPicPr>
        <p:blipFill>
          <a:blip r:embed="rId1"/>
          <a:stretch/>
        </p:blipFill>
        <p:spPr>
          <a:xfrm>
            <a:off x="3916440" y="3951360"/>
            <a:ext cx="1592280" cy="18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Approaches cont.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-360" y="2362320"/>
            <a:ext cx="5638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HUMANISTIC PSYCHOLOG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ople try to achieve their maximum potential (self actualizatio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mote health and self-growt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4" name="Picture 5" descr="mp2"/>
          <p:cNvPicPr/>
          <p:nvPr/>
        </p:nvPicPr>
        <p:blipFill>
          <a:blip r:embed="rId1"/>
          <a:stretch/>
        </p:blipFill>
        <p:spPr>
          <a:xfrm>
            <a:off x="5743440" y="4105440"/>
            <a:ext cx="3400560" cy="27525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7" descr="maslow"/>
          <p:cNvPicPr/>
          <p:nvPr/>
        </p:nvPicPr>
        <p:blipFill>
          <a:blip r:embed="rId2"/>
          <a:stretch/>
        </p:blipFill>
        <p:spPr>
          <a:xfrm>
            <a:off x="6781680" y="1066680"/>
            <a:ext cx="215280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What Approach is Best?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2960" y="1904760"/>
            <a:ext cx="76975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hat perspectives should we consider throughout this clas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ECLECTI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bination of approach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me topics/issues have become dominated by a certain approach, so this will lead our thinking, but all should be in our consideration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71200" y="191160"/>
            <a:ext cx="81630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Apply Perspectives to Case Study: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pplication - </a:t>
            </a:r>
            <a:r>
              <a:rPr b="0" lang="en-US" sz="32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Andrea Yat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applications – test anxiety, autis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Neuroscience Perspectiv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16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 on how the physical body and brain creates our emotions, memories and sensory experienc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914400" y="3657600"/>
            <a:ext cx="46483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you could not remember the names of your parents and  went to a psychologist who adheres to the neuroscience perspective, what might they say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7" descr="http://www.sixthman.net/blog/wp-content/uploads/2009/05/brain-763982-11.jpg"/>
          <p:cNvPicPr/>
          <p:nvPr/>
        </p:nvPicPr>
        <p:blipFill>
          <a:blip r:embed="rId1"/>
          <a:stretch/>
        </p:blipFill>
        <p:spPr>
          <a:xfrm>
            <a:off x="5638680" y="3505320"/>
            <a:ext cx="3125880" cy="31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Evolutionary Perspectiv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464796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Focuses on Darwinism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We behave the way we do because we inherited those behaviors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Thus, those behaviors must have helped ensure our ancestors survival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Mother nature practicing selective breeding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Picture 4" descr="homer4"/>
          <p:cNvPicPr/>
          <p:nvPr/>
        </p:nvPicPr>
        <p:blipFill>
          <a:blip r:embed="rId1"/>
          <a:stretch/>
        </p:blipFill>
        <p:spPr>
          <a:xfrm>
            <a:off x="5334120" y="2841480"/>
            <a:ext cx="3492360" cy="239400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5"/>
          <p:cNvSpPr/>
          <p:nvPr/>
        </p:nvSpPr>
        <p:spPr>
          <a:xfrm>
            <a:off x="5486400" y="530532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could this behavior ensured Homer’s ancestors survival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Psychodynamic Perspectiv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29" name="Object 3"/>
          <p:cNvGraphicFramePr/>
          <p:nvPr/>
        </p:nvGraphicFramePr>
        <p:xfrm>
          <a:off x="1940040" y="1905120"/>
          <a:ext cx="1923840" cy="202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0040" y="1905120"/>
                    <a:ext cx="1923840" cy="20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43240" y="1904760"/>
            <a:ext cx="3979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athered by Sigmund Freu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ur behavior comes from unconscious driv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ually stemming from our childhoo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Picture 5" descr="coach_hg_clr"/>
          <p:cNvPicPr/>
          <p:nvPr/>
        </p:nvPicPr>
        <p:blipFill>
          <a:blip r:embed="rId3"/>
          <a:stretch/>
        </p:blipFill>
        <p:spPr>
          <a:xfrm>
            <a:off x="1363680" y="2398680"/>
            <a:ext cx="2928960" cy="275112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6"/>
          <p:cNvSpPr/>
          <p:nvPr/>
        </p:nvSpPr>
        <p:spPr>
          <a:xfrm>
            <a:off x="457200" y="5181480"/>
            <a:ext cx="480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hat might a psychoanalyst say is the reason someone always needs to be chewing gum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ehavioral Perspectiv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cuses on our OBSERVABLE behavior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ly cares about the behaviors that impair our living, and attempts to change th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6" name="Picture 4" descr="fingernails"/>
          <p:cNvPicPr/>
          <p:nvPr/>
        </p:nvPicPr>
        <p:blipFill>
          <a:blip r:embed="rId1"/>
          <a:stretch/>
        </p:blipFill>
        <p:spPr>
          <a:xfrm>
            <a:off x="4724280" y="1066680"/>
            <a:ext cx="3781440" cy="381024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5"/>
          <p:cNvSpPr/>
          <p:nvPr/>
        </p:nvSpPr>
        <p:spPr>
          <a:xfrm>
            <a:off x="4876920" y="4952880"/>
            <a:ext cx="3657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f you bit your fingernails when you were nervous, a behaviorist would not focus on calming you down, but rather focus on how to stop you from biting your nail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16264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3366"/>
                </a:solidFill>
                <a:uFillTx/>
                <a:latin typeface="Verdana"/>
              </a:rPr>
              <a:t>BEHAVIORIST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79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people lear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wards and punish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0" name="Picture 5" descr="watson"/>
          <p:cNvPicPr/>
          <p:nvPr/>
        </p:nvPicPr>
        <p:blipFill>
          <a:blip r:embed="rId1"/>
          <a:stretch/>
        </p:blipFill>
        <p:spPr>
          <a:xfrm>
            <a:off x="1371600" y="3505320"/>
            <a:ext cx="1741320" cy="24177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5043240" y="4071960"/>
            <a:ext cx="3979800" cy="20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Picture 12" descr="3781b"/>
          <p:cNvPicPr/>
          <p:nvPr/>
        </p:nvPicPr>
        <p:blipFill>
          <a:blip r:embed="rId2"/>
          <a:stretch/>
        </p:blipFill>
        <p:spPr>
          <a:xfrm>
            <a:off x="4724280" y="1143000"/>
            <a:ext cx="3543480" cy="541980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13"/>
          <p:cNvSpPr/>
          <p:nvPr/>
        </p:nvSpPr>
        <p:spPr>
          <a:xfrm>
            <a:off x="1143000" y="6095880"/>
            <a:ext cx="2506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John B. Wats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ognitive Perspectiv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4495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es on how we think (or encode informatio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we see the world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id we learn to act to sad or happy event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gnitive Therapist attempt to change the way you think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6" name="Picture 4" descr="college_student_talking_to_girl_at_party_hg_clr"/>
          <p:cNvPicPr/>
          <p:nvPr/>
        </p:nvPicPr>
        <p:blipFill>
          <a:blip r:embed="rId1"/>
          <a:stretch/>
        </p:blipFill>
        <p:spPr>
          <a:xfrm>
            <a:off x="4800600" y="990720"/>
            <a:ext cx="1824120" cy="21859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" descr="college_kid_rejected_hg_clr"/>
          <p:cNvPicPr/>
          <p:nvPr/>
        </p:nvPicPr>
        <p:blipFill>
          <a:blip r:embed="rId2"/>
          <a:stretch/>
        </p:blipFill>
        <p:spPr>
          <a:xfrm>
            <a:off x="6956280" y="990720"/>
            <a:ext cx="2187720" cy="21873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6" descr="heart_head_sad_hg_clr"/>
          <p:cNvPicPr/>
          <p:nvPr/>
        </p:nvPicPr>
        <p:blipFill>
          <a:blip r:embed="rId3"/>
          <a:stretch/>
        </p:blipFill>
        <p:spPr>
          <a:xfrm>
            <a:off x="6629400" y="4038480"/>
            <a:ext cx="2514600" cy="22845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7" descr="heart_head_wink_hg_clr"/>
          <p:cNvPicPr/>
          <p:nvPr/>
        </p:nvPicPr>
        <p:blipFill>
          <a:blip r:embed="rId4"/>
          <a:stretch/>
        </p:blipFill>
        <p:spPr>
          <a:xfrm>
            <a:off x="4495680" y="4114800"/>
            <a:ext cx="2133720" cy="193824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8"/>
          <p:cNvSpPr/>
          <p:nvPr/>
        </p:nvSpPr>
        <p:spPr>
          <a:xfrm>
            <a:off x="4724280" y="32004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et gir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Text Box 9"/>
          <p:cNvSpPr/>
          <p:nvPr/>
        </p:nvSpPr>
        <p:spPr>
          <a:xfrm>
            <a:off x="6858000" y="32767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et Rejected by gir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Text Box 10"/>
          <p:cNvSpPr/>
          <p:nvPr/>
        </p:nvSpPr>
        <p:spPr>
          <a:xfrm>
            <a:off x="7010280" y="60199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d you learn to be depress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Text Box 11"/>
          <p:cNvSpPr/>
          <p:nvPr/>
        </p:nvSpPr>
        <p:spPr>
          <a:xfrm>
            <a:off x="4343400" y="60199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r get back on the hor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16264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Social-Cultural Perspectiv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cus on how your culture effects your behavior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4" descr="BreakfastClubBigPic"/>
          <p:cNvPicPr/>
          <p:nvPr/>
        </p:nvPicPr>
        <p:blipFill>
          <a:blip r:embed="rId1"/>
          <a:stretch/>
        </p:blipFill>
        <p:spPr>
          <a:xfrm>
            <a:off x="380880" y="3124080"/>
            <a:ext cx="5410440" cy="353880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5"/>
          <p:cNvSpPr/>
          <p:nvPr/>
        </p:nvSpPr>
        <p:spPr>
          <a:xfrm>
            <a:off x="6477120" y="2708280"/>
            <a:ext cx="26668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ven in the same high school, behaviors can change in accordance to the various subcultur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816264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Humanistic Perspectiv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cuses on positive growt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tempt to seek self-actualiz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rapists use active listening and unconditional positive regar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0" name="Picture 4" descr="rogers"/>
          <p:cNvPicPr/>
          <p:nvPr/>
        </p:nvPicPr>
        <p:blipFill>
          <a:blip r:embed="rId1"/>
          <a:stretch/>
        </p:blipFill>
        <p:spPr>
          <a:xfrm>
            <a:off x="1600200" y="4191120"/>
            <a:ext cx="1749600" cy="247644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5"/>
          <p:cNvSpPr/>
          <p:nvPr/>
        </p:nvSpPr>
        <p:spPr>
          <a:xfrm>
            <a:off x="3733920" y="4419720"/>
            <a:ext cx="3520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r. Rogers would have made a great Humanistic Therapist!!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2T17:58:54Z</dcterms:created>
  <dc:creator>jstoverink</dc:creator>
  <dc:description/>
  <dc:language>en-US</dc:language>
  <cp:lastModifiedBy>Stephanie Hein Phillips</cp:lastModifiedBy>
  <dcterms:modified xsi:type="dcterms:W3CDTF">2013-10-22T17:47:53Z</dcterms:modified>
  <cp:revision>20</cp:revision>
  <dc:subject/>
  <dc:title>PSYCHOLOGY</dc:title>
</cp:coreProperties>
</file>